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9016-1A15-47EB-92CA-A8F978234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770-E0CF-43D6-BAFC-9865F552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7EC-A2E1-4BDF-8B80-26A16346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A1C-16E4-43C1-885C-B8DE4071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D84-DA07-4103-9C69-88180E82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AA5A-7E50-48A5-813C-D8ED32CE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2AF7-036E-4933-BCD7-EF5725A8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E95F-B034-4E9C-B92F-1061CD24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F63B-F23A-4EDC-93C1-3C3D4248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852C-0162-4619-89F9-E5849530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CCCF-461F-4E52-8A58-D43BB43B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D174-B3AD-48EF-950B-C0B0398C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9368-10B0-4CA7-8D6A-0A2263B5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933F-825C-479E-9655-EE258E1A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FDA1-842E-4C0A-ABC1-9DED4CB4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794D-2493-4725-9C6E-B0783FD5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FEE0-7287-4280-AD43-1B247679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2DE8-F484-48BE-AC44-B925DA2B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C14-C809-41B0-A8AA-D6132A8E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07B0-5DF4-43D1-9E11-269C69B4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35D-166E-4F71-8160-28B7FA71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4A0E-1937-4CE1-8D00-4F5D3746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330-4840-4666-A6F0-36A51772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0CF-0262-4549-BA8D-A909B764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948-3427-4771-B618-6736EFBE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3A80-BB9D-4209-B1FA-C1E659CB7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F1F4-0BAB-45C0-A5D5-343F988C5D0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Scientific Method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ontrols and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cientific Experiments Follow Rul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experimente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hanges one factor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bserves or measures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happe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professor7"/>
          <p:cNvPicPr/>
          <p:nvPr/>
        </p:nvPicPr>
        <p:blipFill>
          <a:blip r:embed="rId1"/>
          <a:stretch/>
        </p:blipFill>
        <p:spPr>
          <a:xfrm>
            <a:off x="5068800" y="2498760"/>
            <a:ext cx="3886200" cy="30938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The Control Variab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experimenter makes a special effort to keep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factors constan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o that they will not effect the outcom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ose factors are called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ntrol variables.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What is the Purpose of a Control?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709720"/>
            <a:ext cx="77724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used for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MPARIS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Other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factor that is changed is known as th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actor that is measured or observed is called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xample of Controls &amp;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ppose you want to figure out th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astest rou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walk home from school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ill try several different routes and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me how long it tak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to get home by each on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you are only interested in finding a route that is fastest for you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ou will do the walking yoursel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at are the Variables in Your Experime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arying the route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time it takes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Keeping the same walker throughout makes the walker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trol variable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One more thing… it is best to make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everal trials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 with each independent variable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Valid Experiment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member: To be a Valid Experimen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wo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required --- the control &amp; experimental grou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should be only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n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variab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teps in 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6" descr="j0076135"/>
          <p:cNvPicPr/>
          <p:nvPr/>
        </p:nvPicPr>
        <p:blipFill>
          <a:blip r:embed="rId1"/>
          <a:stretch/>
        </p:blipFill>
        <p:spPr>
          <a:xfrm>
            <a:off x="1182600" y="2692440"/>
            <a:ext cx="381024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y b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ntitativ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numbers) o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litati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6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st be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organiz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be organized int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charts, tables, or graph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4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Conclu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415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nsw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the hypothesis based on the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data obtained from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6" descr="bs01344_"/>
          <p:cNvPicPr/>
          <p:nvPr/>
        </p:nvPicPr>
        <p:blipFill>
          <a:blip r:embed="rId1"/>
          <a:stretch/>
        </p:blipFill>
        <p:spPr>
          <a:xfrm>
            <a:off x="5145120" y="2435400"/>
            <a:ext cx="3809880" cy="32781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etes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order to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erify the 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experiments must be retested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Review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olving a Probl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4419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) State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bservati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ypothes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 (if…then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) Design a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xperiment to test the hypo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) Collect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)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6" descr="j0076187"/>
          <p:cNvPicPr/>
          <p:nvPr/>
        </p:nvPicPr>
        <p:blipFill>
          <a:blip r:embed="rId1"/>
          <a:stretch/>
        </p:blipFill>
        <p:spPr>
          <a:xfrm>
            <a:off x="5210280" y="2017800"/>
            <a:ext cx="3679560" cy="41148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thered through you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e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cientist notices something in thei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atur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430704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f an observ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noticing that many salamanders near a pond have curved, not straight, 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uggested solution to the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es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metimes written as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If…Then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dic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 out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6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 of a hypothes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that the salamanders have curved tails due to a pollutant in the moist soil where they li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procedure to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es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hypothesi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Variabl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factor in the experiment that is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good or “valid” experiment will only have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NE variable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3:26:13Z</dcterms:created>
  <dc:creator>Cheryl Massengale</dc:creator>
  <dc:description/>
  <dc:language>en-US</dc:language>
  <cp:lastModifiedBy>LEGION</cp:lastModifiedBy>
  <dcterms:modified xsi:type="dcterms:W3CDTF">2016-12-07T09:22:17Z</dcterms:modified>
  <cp:revision>10</cp:revision>
  <dc:subject/>
  <dc:title>Scientific Method</dc:title>
</cp:coreProperties>
</file>